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562-CAED-4DC4-9435-DE63382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062-93E9-4057-A358-DB47BB6E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698-6956-4944-A0F3-7849628C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D4D-268E-4782-978E-8E0609E4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1C7-4979-4E3A-AB61-DEE0BED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393-5653-4961-91F3-624365E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EDB-38FD-46C5-B4A5-955CC046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C9A-35A7-4F03-BC5D-6FF2883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F5A-71F2-4CDB-A226-EFA3A03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917-6F18-4B0F-A6A0-304075C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59C-82AE-42A7-8D35-D301330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F78-ED8C-4C4C-8829-CD8B6EC9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7731-148C-4F5C-AB9A-44B322F19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354816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 - 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Evangelos Sfakiotakis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Professor of Pomology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Aristotle University of Thessal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77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78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401940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eharvest applications offers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ptimisation require understand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crop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disease epidem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biology, ecology and population dynamic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interaction amo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8"/>
          <p:cNvGraphicFramePr/>
          <p:nvPr/>
        </p:nvGraphicFramePr>
        <p:xfrm>
          <a:off x="152280" y="914400"/>
          <a:ext cx="11355480" cy="4653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1135548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6480"/>
            <a:ext cx="9163080" cy="68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Botrytis rots starts from senesc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flower parts that become latent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ch develop later into active ro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n rip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Good control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Aureobasidium pullu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Candida ole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prayed at bloom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y colonise the flowers and prev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 colonisation by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B. cine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5013360" y="990720"/>
            <a:ext cx="4130640" cy="6242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949960" y="1000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3880" y="2629080"/>
            <a:ext cx="350532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8600" y="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Latent and quis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fection through wounds during harvest and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505320" y="730080"/>
            <a:ext cx="5638680" cy="365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-9360" y="4343400"/>
            <a:ext cx="897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Mechanical injuries during harvest and postharves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 near harvest application of postharvest with antagonist dela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apples a (2 days) preharvest application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C. sake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had less blue m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fter 4 months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strawberries treated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immediately before harve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Rhizopu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rot was reduced by 72% but not o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. cin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685800" y="2895480"/>
            <a:ext cx="48769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80880" y="228600"/>
            <a:ext cx="9068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Suppression of pathogen ino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anaging fruit rots by means of preharvest treatments with biocontrol agents--&gt;suppress the pathogen at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protects floral cups of grape from botrytis inv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52280" y="228600"/>
            <a:ext cx="90680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Unadvisable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hen postharvest handling is unacceptable (the produce may become less appealing) best to apply preharvest application of biocontro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.g. grapes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fruits with waxy bloom on the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ppl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3 days before harvest-the grape bunches are directed packed in the field and stored at 0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same with strawberries spay with suspension of antagonistic propagules, one day before harvest, pack the into plastic baskets where they remain until they reach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52280" y="228600"/>
            <a:ext cx="906804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Ideal antagonist characteristics: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lerate low nutrien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sic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apid climati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resence of ag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28600" y="423720"/>
            <a:ext cx="90676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deal antagonist character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52280" y="228600"/>
            <a:ext cx="90680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52280" y="228600"/>
            <a:ext cx="9068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ttachement to the host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mportant for surface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In yeasts production of slime (extracellular polysacharides) - the main mechanism to adhere to the leav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-based technologies for the control of postharvest diseases</a:t>
            </a:r>
            <a:br>
              <a:rPr sz="4400"/>
            </a:b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Use of 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52280" y="228600"/>
            <a:ext cx="563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ruit surface col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rucial is the host fruit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 successful biocolonisation agent should well established before the pathogen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o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applied to grapes, strawberries and sweet cherries, indicated population densities in the field did not change and in each case were caused a decrease in postharvest decay during cold storage and afterward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792760" y="2057400"/>
            <a:ext cx="3348000" cy="48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52280" y="228600"/>
            <a:ext cx="90680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ixture of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 assure adequate disease control under various conditions a mixture of antagonists is 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broaden the spectru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enhance efficacy-allowing a reduction in applica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allow the combination of various biocontrol traits without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sorting generic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pples -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Sporobolomyces roseu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. syringae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/ blue mould on Golden Delic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etter microorganism mixtures could be selected if we know the ecology of the micro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52280" y="228600"/>
            <a:ext cx="90680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tegrated control with the use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esticide applications can have a harmful effect on non-pathogenic microbial populations (e.g. ap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integration of fungicides with biocontrol agents offers an opportunity to reduce the amount of fungicide in preharvest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52280" y="228600"/>
            <a:ext cx="9068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uxiliary to improve biocontro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M. pulcherri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(R320) was improved in preharvest application using chito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alcium chloride application significantly improved the efficacy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in preharvest grape application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52280" y="228600"/>
            <a:ext cx="9068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inal remarks and futur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" y="1752480"/>
            <a:ext cx="4343400" cy="152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1752480"/>
            <a:ext cx="22860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0600" y="17524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0840" y="11430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Growth and development in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638320" y="1127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ost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091040" y="8128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25440" y="2021040"/>
            <a:ext cx="3789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 antagonist applied in the field prior to harvest can reduce the inoculumat harv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antagonist will be in the right place at the right moment ready to colonise the susceptible tissues (senescing floral parts, freshly made wounds etc.) before the arrival of path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cological studies are necess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Needs for detecting and monitoring biocontrol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role of getetic manipulation with cloned gene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13280" y="1981080"/>
            <a:ext cx="238752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648320" y="12193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150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151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ff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829040" y="4038480"/>
            <a:ext cx="43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confined environment for the storage of the harvested commodities provides a great opportunity for applying biocontrol ag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temperature and the RH are stabl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d control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y act in more concentrated plant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value of the harvested crop is great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nough to justify expensiv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ntrol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5105520" y="32767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320" y="20570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he confined storage environment great opportunity for applying biocontrol agents since temperature and humidity are stable and 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Easy to apply biocontrol agents (they act on the more concentrated plant pa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High value to justify extensive expensive control procedure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Advantages to implemment biocontrol after harv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"/>
          <p:cNvGraphicFramePr/>
          <p:nvPr/>
        </p:nvGraphicFramePr>
        <p:xfrm>
          <a:off x="382680" y="1444680"/>
          <a:ext cx="11045880" cy="40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1444680"/>
                    <a:ext cx="1104588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re research is needed to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mode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cological success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f antagonistic microorganisms on the surface of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ffect of PH practic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n the biological activity of the introduce antag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dynamics of the interact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between antagonists, pathogen and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Human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health and safety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6858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28600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-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lant ex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ssential oils and vola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icrobial fermentation and animal by-products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chitosan, pull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Washed product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velop more rot than unwashe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Bacillus subtili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from the surface of citrus fruit</a:t>
            </a:r>
            <a:br>
              <a:rPr sz="2400"/>
            </a:b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nhibited the development of 13 pathogens of citrus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Trichoderma sp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duces the green mold disease of citrus fruit b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Isolation of natural antago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609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17524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fence respones - activation of defenc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deposition of lignin, callose, and hydroxiproline-rich glycoproteins; accumulation of phytoalexi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synthesis of proteinase inhibitors and lytic enzymes (chitinases, chitosanase, b-1,3-glucanases)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6"/>
          <p:cNvGrpSpPr/>
          <p:nvPr/>
        </p:nvGrpSpPr>
        <p:grpSpPr>
          <a:xfrm>
            <a:off x="838080" y="4203720"/>
            <a:ext cx="3733920" cy="2654280"/>
            <a:chOff x="838080" y="4203720"/>
            <a:chExt cx="3733920" cy="2654280"/>
          </a:xfrm>
        </p:grpSpPr>
        <p:pic>
          <p:nvPicPr>
            <p:cNvPr id="184" name="Picture 7" descr=""/>
            <p:cNvPicPr/>
            <p:nvPr/>
          </p:nvPicPr>
          <p:blipFill>
            <a:blip r:embed="rId3"/>
            <a:stretch/>
          </p:blipFill>
          <p:spPr>
            <a:xfrm>
              <a:off x="838080" y="4203720"/>
              <a:ext cx="373392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8"/>
            <p:cNvSpPr/>
            <p:nvPr/>
          </p:nvSpPr>
          <p:spPr>
            <a:xfrm>
              <a:off x="2724840" y="42303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Healed wou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in ap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286000"/>
            <a:ext cx="914400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Ultraviolet light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(non-ionizing radiation-190-280 nm) activates the biosynthesis of phytoalexins and elicitation of pathogenesis related prote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Prestorage heating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potential for control of postharvest diseases by directly inhibiting pathogen growth, activating the natural resistance of the host, and indirectly by slowing down the ripening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Chitosa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esides interfering directly with fungal growth, chitosan can induce several defence responses in plant tissue.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Attenuated strai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y inoculation with certain microorganisms (e.g. by antagonists yeasts)to induce defence response in harvested t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28600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Several pathogen- activated defence genes have been identified, cloned, and studied at the molecular level. Attepts are underway to generate transgenic plants with defence-related 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directly interacts with path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attack pathogens by direct parasi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possible production of glucanases or chitinases by the antago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17524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 of yeast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successfully competes with pathogen for nutrients and/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US-7 yeast against the citrus pathoge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By secretion of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ibiotic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ith wide antifungal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acillus substili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Pseudomonas ceparia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oduce an antibiotic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(iturin, gramicidin S)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with wide antifungal spect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gainst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Monilinia fruticol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on stone f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seudomonas cepaci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----&gt; pyrrolnitrin /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ium digitatum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induces resistance processes in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when US-7 (yeast against Penicillium) ethylene production increased--&gt; activity of PAL (phenols, phytoalexins and lignin)-increased resistance to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14:54:46Z</dcterms:created>
  <dc:creator>Sfakiotakis</dc:creator>
  <dc:description/>
  <dc:language>en-US</dc:language>
  <cp:lastModifiedBy>dimoleni</cp:lastModifiedBy>
  <cp:lastPrinted>2005-05-24T12:16:42Z</cp:lastPrinted>
  <dcterms:modified xsi:type="dcterms:W3CDTF">2011-04-29T13:20:37Z</dcterms:modified>
  <cp:revision>39</cp:revision>
  <dc:subject/>
  <dc:title>Xειρισμοί για αντιμετώπιση μετασυλλεκτικών ασθενειών</dc:title>
</cp:coreProperties>
</file>